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164-1170-4ED8-B9E3-F303EE40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98F-5266-43F5-80DC-0A39AE12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6B34-7D28-46E0-ACA1-0E22D136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D01C-8CCE-493D-9F87-BF0973101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9E4-7E4A-498E-ADA2-1F7748D3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811-F6C5-472A-BCF1-64666CD0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B12-B0B9-4F0B-BD80-A1586036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E0A5-3990-4743-8B71-F1DE02ED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E39-2800-422A-B73B-A35D39C8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38F-CA04-48F4-BFB6-92DAFDB6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324-CEBE-47F5-B41B-179D8E28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002-23E7-450E-B4B1-2C45C831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1590-D026-4579-8992-5CBDBFB2ACAA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816" t="18684" r="19905" b="21293"/>
          <a:stretch/>
        </p:blipFill>
        <p:spPr>
          <a:xfrm>
            <a:off x="2843280" y="2008080"/>
            <a:ext cx="3600360" cy="264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24000" y="549360"/>
            <a:ext cx="85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ECTRON CONFIGURATIONS</a:t>
            </a:r>
            <a:endParaRPr b="0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544500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68440" y="2924280"/>
            <a:ext cx="2612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mportant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91636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6072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78000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2436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643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88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083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050920" y="134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64080" y="501336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69320" y="5451480"/>
            <a:ext cx="51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A partially filled 3d sublevel with 3d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r 3d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rticulary s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1964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6400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832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2764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948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9308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81200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604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74872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93320" y="2924280"/>
            <a:ext cx="156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ygen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63280" y="2924280"/>
            <a:ext cx="2030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esium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54720" y="2924280"/>
            <a:ext cx="1841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per 2+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291636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6072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78000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2436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643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88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1264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74720" y="545148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hen forming a cation the atom loses the 4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electrons before the 3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21964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6400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0832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2764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948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9308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81200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95672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8604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47640" y="189000"/>
            <a:ext cx="7596360" cy="165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987560"/>
            <a:ext cx="759636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3284640"/>
            <a:ext cx="7596360" cy="15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5084640"/>
            <a:ext cx="759636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7080" y="5589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7080" y="3933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7080" y="2349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7080" y="112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10160" y="522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10160" y="3925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9800" y="3133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10160" y="2414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9800" y="1622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10160" y="97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8520" y="182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71160" y="5222880"/>
            <a:ext cx="40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 – 1 sublevel and 1 orbital 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56000" y="5445000"/>
            <a:ext cx="1295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8240" y="3736800"/>
            <a:ext cx="36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evel 2 – 2 sublevels with 1 orbital in the first sublevel 2s, and 3 orbitals in the second 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55640" y="4437000"/>
            <a:ext cx="28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924360" y="414972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1989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evel 3 – 3 sublevels with 1 orbital in the first sublevel 3s, 3 orbitals in the second 3p and five in the third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26920" y="2781360"/>
            <a:ext cx="280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924360" y="2636640"/>
            <a:ext cx="151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435640" y="1125360"/>
            <a:ext cx="21600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6520" y="292428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3964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529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3640" y="2924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97160" y="29242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8764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851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7149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95720" y="29242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8764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851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7149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987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851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5440" y="29242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98764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51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7149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987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851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71492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928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0920" y="134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083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44720" y="2924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98764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851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7149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987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32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851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564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71492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5928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083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050920" y="134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95640" y="134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2912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3564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156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0072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2000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6436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5724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68440" y="2924280"/>
            <a:ext cx="2612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mportant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1636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6072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78000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643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88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083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50920" y="134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21820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0832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94692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5724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8850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867564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69320" y="5451480"/>
            <a:ext cx="51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A partially filled 3d sublevel with 3d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r 3d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rticulary s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0:00:29Z</dcterms:created>
  <dc:creator>Administrator</dc:creator>
  <dc:description/>
  <dc:language>en-US</dc:language>
  <cp:lastModifiedBy>dlaurenc</cp:lastModifiedBy>
  <dcterms:modified xsi:type="dcterms:W3CDTF">2007-08-14T21:53:16Z</dcterms:modified>
  <cp:revision>18</cp:revision>
  <dc:subject/>
  <dc:title>Slide 1</dc:title>
</cp:coreProperties>
</file>